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E13-286C-495A-8084-CB3D319E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8695-4DF0-4B1F-A29C-9D9F32B9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237-88F0-4E08-AF2D-85C2E470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C51-5B86-4A5D-9E56-616602C4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BFE28-AC8C-431F-A625-B665299D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E6F13-ABAA-4B2C-BFC2-0467D966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CAEC6-3F10-409B-AF24-00EFA224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75CD5-910F-41A9-8885-617968AF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51313-1DEF-4D9C-A61A-79FD64E0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4A3A1-F749-4A16-8DCA-4A9F7E30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E4A5F-FF25-45C0-A8F0-913BB782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D29-A083-43BD-AC07-21CAEBBC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5B0DB-CEB7-45DA-91E0-5CC58A17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4B00A-6E48-4B58-91A7-5F491EFA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D56AC-BFEA-4A2F-94C4-779FA2A9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79739-8777-40F4-9EAF-8E163778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203C6-B867-4308-9F83-BDEB701C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70F0-1028-4947-95DD-FFE483D3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F996B-087F-4713-82B3-D0602026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DE958-3F26-4AFA-9C61-B8A60296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CAAE-3939-476F-BE4D-26D72E3D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70EF-7A96-4513-9DDB-7B50254C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91D-4F14-4EDA-B810-179109DB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73FF3-1BFF-4D07-86A9-2B1CE7D2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90867-73FC-40D2-9242-3DC484CF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BA8D-6641-4CA6-A93E-825372E8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99CA-4655-404C-9183-35A25F0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8A28-8F47-4490-9746-56AD4E92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DC3C-F193-4471-90A5-7649F5B8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6264D-916F-4F0D-9EFE-97AE343F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B3D91-65A9-4441-BEBF-0BDF8A71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024FB-4A8D-42A0-B8B6-9D5E700A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6B3B2-FD41-4808-B9B0-186D27ED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55D-30CA-440E-BB2D-3BE7EBD9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DFD3A-5228-4875-95A5-7F5014C9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9A4D9-E359-4B52-8377-0A3C36F2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0A55D-D967-47D7-B7AD-652A3DCD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EDC54-74AA-4D3F-A5D4-6082FF2D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FFCCF-B68F-40C2-ADA1-60068CC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BE27FF-E3FE-4D6F-A02F-E26B0C6B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D18DA-C019-492E-82D8-FB7A577D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BEB6F-864F-4D45-8320-2581A9DA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8283D2-2DD3-4360-8AAE-D6D21362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4B7B-9C4C-49E4-A524-167B12F2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66E-71C1-4608-989F-564204C6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3069-B975-4B72-84D1-C0ED9F92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D95-E6E4-40E2-A18C-753B8619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32F-BF44-4E34-89F6-21DEB1CC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C371-DE26-451A-8B4C-3DCF3BAD37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EAC8-850B-408A-9E7E-DB60B73286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D446-503B-4C03-B9D2-AD63F4761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455A-1E78-4A11-8906-82DF9854C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hyperlink" Target="http://en.wikipedia.org/wiki/Hauraki_Gulf" TargetMode="External"/><Relationship Id="rId4" Type="http://schemas.openxmlformats.org/officeDocument/2006/relationships/hyperlink" Target="http://www.maritimenz.govt.nz/Recreational-Boating/Lifejackets/" TargetMode="External"/><Relationship Id="rId5" Type="http://schemas.openxmlformats.org/officeDocument/2006/relationships/hyperlink" Target="http://www.watersafety.nsw.gov.au/beach-safety/" TargetMode="External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7956360" cy="1079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799128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by Lachlan and Aaka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This is the Hauraki Gu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oday our question is How to stop people drowning in the Hauraki Gulf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63640" y="2997360"/>
            <a:ext cx="5688000" cy="34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ahoma"/>
              </a:rPr>
              <a:t>How many people drown in the Hauraki Gulf each year 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Heaps of people drown each year so that’s why we are asking the question How many people drown in the Hauraki Gulf each ye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way to solve people drowning in the Hauraki Gulf is to make people wear lifejacke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Image by FlamingText.com"/>
          <p:cNvPicPr/>
          <p:nvPr/>
        </p:nvPicPr>
        <p:blipFill>
          <a:blip r:embed="rId2"/>
          <a:stretch/>
        </p:blipFill>
        <p:spPr>
          <a:xfrm>
            <a:off x="1403280" y="404640"/>
            <a:ext cx="6105600" cy="12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tur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643200" cy="4421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4267080" cy="28479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1762200" y="4365720"/>
            <a:ext cx="302580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shing Safe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eep safe when fishing you should wear life jackets at all times so if you slip and you fall in the water you will float and you won’t dr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280" y="3860640"/>
            <a:ext cx="7273800" cy="144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wimming Safe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keep safe when swimming you should swim between the flags so lifeguards can get to you eas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916360" y="4076640"/>
            <a:ext cx="3095640" cy="23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deep to swi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times at beaches there are no lifeguards. For example at Eastern Beach there are no lifeguards. When there are no lifeguards I suggest that you go only go chest height into the water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se are some links for the Hauraki Gulf in Gener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auraki Gulf in gene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Why to wear life jack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Why to swim between the fla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2:16:58Z</dcterms:created>
  <dc:creator>6f13</dc:creator>
  <dc:description/>
  <dc:language>en-US</dc:language>
  <cp:lastModifiedBy>6f13</cp:lastModifiedBy>
  <dcterms:modified xsi:type="dcterms:W3CDTF">2013-05-22T02:52:57Z</dcterms:modified>
  <cp:revision>10</cp:revision>
  <dc:subject/>
  <dc:title>Slide 1</dc:title>
</cp:coreProperties>
</file>